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DF0E29-66A9-44E2-9773-8A17EF9675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39BB43-2FF6-42CE-87EC-8BC93451921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A6A112-D8CD-4AAC-9F39-FA7705C2FAD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ACBC10-C908-4604-A065-5AAFFBB59C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820A29-520D-454B-820D-A777937E628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C176EB-00E9-4E38-86C3-D361764AEDA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6B0241-6589-4062-9103-D5D6D138AC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DE73B3-37E7-4B9E-825E-B3BB9F093A0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6E6451-17A3-4C40-B564-DDF4A6D32D9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50D441-CD3C-4E5C-AC73-BEFEB87AF0E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E8FF83-99F8-424C-914D-03D4CCD304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3FBF06-6B4F-42F9-AC5A-2706ECC1E22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4ED572-E798-431B-B7AE-6C1C887FBF8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32417D-C376-4683-97F8-C971BB5E70EF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EEDC9A-CE79-4CFA-B54D-27AD410738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0FB674-D485-4682-8A61-05BBE612E664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E358CE-AF3D-4102-ADC8-62DED9E0723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B4698B-28EB-4E5A-BBDC-8A48866416E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AC57F3-C904-44F4-9B2B-6104C0C101D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0C2F14-FBA6-47FF-9F7B-8160C825CE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B7E204-C83B-4C13-AEB5-4D5EEA55161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116-7FBB-4E7D-9DF3-FDA4DD1F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C6B-58FF-415A-80C4-CA36999E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32C-19F9-4A2D-90CD-664B44DF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B85-3E24-4737-A768-704AA4A7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212C-7C42-4D1C-A0B5-C6DE2210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4A4-3D7B-4779-AAF3-8B687B2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B37-7B80-48FD-9B82-E765883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6E1-F042-4469-91E8-8134AEA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EDFF-7C83-4577-9B04-B82F80F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CBC4-7FD6-4371-B1D9-4499FB87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C68-C854-4DA0-B420-C7A1E73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53D-A24E-4FF3-BE72-9AECD04A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EFDB-52EC-4186-AA3A-A801D55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13B-12C1-49FA-8AF8-3956FB0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3234-2DFA-495B-9931-BD4D26B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AEF1-85B4-4EA7-A610-E95DA9E5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F1E-56AB-404C-B7A5-A2C3CB74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063-A900-4B62-BD82-A663C67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AA8-DA78-4F2A-A81E-845B3CE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046-0EFC-4310-AB68-C85499D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AE1-9EDC-4E6D-A670-C73794EF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97E-081C-47C0-BF7B-02E1EAC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144-3273-4C93-B8FC-11E9AD4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48D-4186-40DE-8403-E0687F8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0A84-EF98-4272-B9B2-8070BA681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C551-8DCB-4E91-9A00-0293660A47E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unary/gamm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4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igh-id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hampion lis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Fancy hi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most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AN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7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2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5" name="Group 90" descr=""/>
          <p:cNvPicPr/>
          <p:nvPr/>
        </p:nvPicPr>
        <p:blipFill>
          <a:blip r:embed="rId1"/>
          <a:stretch/>
        </p:blipFill>
        <p:spPr>
          <a:xfrm>
            <a:off x="3873600" y="2197080"/>
            <a:ext cx="1854000" cy="2006640"/>
          </a:xfrm>
          <a:prstGeom prst="rect">
            <a:avLst/>
          </a:prstGeom>
          <a:ln w="0">
            <a:noFill/>
          </a:ln>
        </p:spPr>
      </p:pic>
      <p:pic>
        <p:nvPicPr>
          <p:cNvPr id="256" name="Group 91" descr=""/>
          <p:cNvPicPr/>
          <p:nvPr/>
        </p:nvPicPr>
        <p:blipFill>
          <a:blip r:embed="rId2"/>
          <a:stretch/>
        </p:blipFill>
        <p:spPr>
          <a:xfrm>
            <a:off x="4483080" y="2197080"/>
            <a:ext cx="1854360" cy="2006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nly accumulate ranking for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2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order by decrin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put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f all docs in their FH, like Champion Lists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1"/>
          <p:cNvSpPr/>
          <p:nvPr/>
        </p:nvSpPr>
        <p:spPr>
          <a:xfrm>
            <a:off x="1332000" y="2492280"/>
            <a:ext cx="223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ttangolo 2"/>
          <p:cNvSpPr/>
          <p:nvPr/>
        </p:nvSpPr>
        <p:spPr>
          <a:xfrm>
            <a:off x="5428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ttangolo 3"/>
          <p:cNvSpPr/>
          <p:nvPr/>
        </p:nvSpPr>
        <p:spPr>
          <a:xfrm>
            <a:off x="3851280" y="2492280"/>
            <a:ext cx="44658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ttangolo 4"/>
          <p:cNvSpPr/>
          <p:nvPr/>
        </p:nvSpPr>
        <p:spPr>
          <a:xfrm>
            <a:off x="1581120" y="30686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4" name="Connettore 2 6"/>
          <p:cNvCxnSpPr/>
          <p:nvPr/>
        </p:nvCxnSpPr>
        <p:spPr>
          <a:xfrm>
            <a:off x="1533600" y="2580840"/>
            <a:ext cx="18309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5" name="Rettangolo 7"/>
          <p:cNvSpPr/>
          <p:nvPr/>
        </p:nvSpPr>
        <p:spPr>
          <a:xfrm>
            <a:off x="2447640" y="2517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CasellaDiTesto 8"/>
          <p:cNvSpPr/>
          <p:nvPr/>
        </p:nvSpPr>
        <p:spPr>
          <a:xfrm>
            <a:off x="1595520" y="2165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CasellaDiTesto 9"/>
          <p:cNvSpPr/>
          <p:nvPr/>
        </p:nvSpPr>
        <p:spPr>
          <a:xfrm>
            <a:off x="5249160" y="178452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1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78" name="Connettore 2 10"/>
          <p:cNvCxnSpPr/>
          <p:nvPr/>
        </p:nvCxnSpPr>
        <p:spPr>
          <a:xfrm>
            <a:off x="3997080" y="2639880"/>
            <a:ext cx="4104360" cy="3420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79" name="Rettangolo 11"/>
          <p:cNvSpPr/>
          <p:nvPr/>
        </p:nvSpPr>
        <p:spPr>
          <a:xfrm>
            <a:off x="6581520" y="2549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ttangolo 13"/>
          <p:cNvSpPr/>
          <p:nvPr/>
        </p:nvSpPr>
        <p:spPr>
          <a:xfrm>
            <a:off x="1403280" y="425304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ttangolo 14"/>
          <p:cNvSpPr/>
          <p:nvPr/>
        </p:nvSpPr>
        <p:spPr>
          <a:xfrm>
            <a:off x="488160" y="4340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r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ttangolo 15"/>
          <p:cNvSpPr/>
          <p:nvPr/>
        </p:nvSpPr>
        <p:spPr>
          <a:xfrm>
            <a:off x="3924360" y="4253040"/>
            <a:ext cx="4464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ttangolo 16"/>
          <p:cNvSpPr/>
          <p:nvPr/>
        </p:nvSpPr>
        <p:spPr>
          <a:xfrm>
            <a:off x="1653120" y="48290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Top-m by TF-IDF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4" name="Connettore 2 17"/>
          <p:cNvCxnSpPr/>
          <p:nvPr/>
        </p:nvCxnSpPr>
        <p:spPr>
          <a:xfrm>
            <a:off x="1604520" y="4339800"/>
            <a:ext cx="1832760" cy="40068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5" name="Rettangolo 18"/>
          <p:cNvSpPr/>
          <p:nvPr/>
        </p:nvSpPr>
        <p:spPr>
          <a:xfrm>
            <a:off x="2519280" y="4276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CasellaDiTesto 19"/>
          <p:cNvSpPr/>
          <p:nvPr/>
        </p:nvSpPr>
        <p:spPr>
          <a:xfrm>
            <a:off x="1666800" y="3860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gt;=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CasellaDiTesto 20"/>
          <p:cNvSpPr/>
          <p:nvPr/>
        </p:nvSpPr>
        <p:spPr>
          <a:xfrm>
            <a:off x="4969080" y="3544920"/>
            <a:ext cx="35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TF-IDF &lt; 2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Same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= x and decreas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88" name="Connettore 2 21"/>
          <p:cNvCxnSpPr/>
          <p:nvPr/>
        </p:nvCxnSpPr>
        <p:spPr>
          <a:xfrm>
            <a:off x="4068360" y="4400280"/>
            <a:ext cx="4104360" cy="34020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stealth" w="med"/>
          </a:ln>
        </p:spPr>
      </p:cxnSp>
      <p:sp>
        <p:nvSpPr>
          <p:cNvPr id="289" name="Rettangolo 22"/>
          <p:cNvSpPr/>
          <p:nvPr/>
        </p:nvSpPr>
        <p:spPr>
          <a:xfrm>
            <a:off x="6653160" y="4309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e 25"/>
          <p:cNvSpPr/>
          <p:nvPr/>
        </p:nvSpPr>
        <p:spPr>
          <a:xfrm>
            <a:off x="34920" y="576108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e 23"/>
          <p:cNvSpPr/>
          <p:nvPr/>
        </p:nvSpPr>
        <p:spPr>
          <a:xfrm>
            <a:off x="4294080" y="2565360"/>
            <a:ext cx="28584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e 24"/>
          <p:cNvSpPr/>
          <p:nvPr/>
        </p:nvSpPr>
        <p:spPr>
          <a:xfrm>
            <a:off x="5005440" y="4365720"/>
            <a:ext cx="287280" cy="20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CasellaDiTesto 30"/>
          <p:cNvSpPr/>
          <p:nvPr/>
        </p:nvSpPr>
        <p:spPr>
          <a:xfrm>
            <a:off x="536400" y="5661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score is sum PR and TF-IDF values, th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CasellaDiTesto 31"/>
          <p:cNvSpPr/>
          <p:nvPr/>
        </p:nvSpPr>
        <p:spPr>
          <a:xfrm>
            <a:off x="1189080" y="6060960"/>
            <a:ext cx="56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y next match, has PR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&lt;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TF-IDF &lt;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CasellaDiTesto 32"/>
          <p:cNvSpPr/>
          <p:nvPr/>
        </p:nvSpPr>
        <p:spPr>
          <a:xfrm>
            <a:off x="1246680" y="6453360"/>
            <a:ext cx="70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o that if </a:t>
            </a:r>
            <a:r>
              <a:rPr b="1" i="1" lang="it-IT" sz="2000" spc="-1" strike="noStrike">
                <a:solidFill>
                  <a:srgbClr val="ff0000"/>
                </a:solidFill>
                <a:latin typeface="Lucida Sans"/>
              </a:rPr>
              <a:t>x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30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&lt; minimum in the Heap, then stop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2" name="AutoShape 5"/>
          <p:cNvCxnSpPr>
            <a:stCxn id="331" idx="1"/>
            <a:endCxn id="331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6" name="AutoShape 45"/>
          <p:cNvCxnSpPr>
            <a:stCxn id="335" idx="5"/>
            <a:endCxn id="315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AutoShape 46"/>
          <p:cNvCxnSpPr>
            <a:stCxn id="335" idx="6"/>
            <a:endCxn id="316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AutoShape 48"/>
          <p:cNvCxnSpPr>
            <a:stCxn id="335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AutoShape 50"/>
          <p:cNvCxnSpPr>
            <a:stCxn id="335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51"/>
          <p:cNvCxnSpPr>
            <a:stCxn id="335" idx="1"/>
            <a:endCxn id="309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AutoShape 52"/>
          <p:cNvCxnSpPr>
            <a:stCxn id="335" idx="1"/>
            <a:endCxn id="310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AutoShape 53"/>
          <p:cNvCxnSpPr>
            <a:stCxn id="328" idx="0"/>
            <a:endCxn id="335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43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still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nearest lea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ut given now the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 For them compute the scores and then take the top-k o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Exact</a:t>
            </a:r>
            <a:r>
              <a:rPr b="0" lang="en-US" sz="36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re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in the heap at the end of the proces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that can “go to the first docID &gt;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“iterator”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ves only to the right, to larger docID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-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,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raised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809F-2A3D-40E8-BE55-A0A68A4C5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22B-EC02-4F69-AF40-48FC5ADB5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1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442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6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7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448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0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2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473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4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5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7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8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479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0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1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482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3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84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485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6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87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488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f 589 is presen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vance and pivot again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5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 contain d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pute score(d), if it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6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546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7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4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79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0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0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1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6360" y="4394160"/>
          <a:ext cx="4572000" cy="1482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equal to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19T12:07:16Z</dcterms:modified>
  <cp:revision>1206</cp:revision>
  <dc:subject/>
  <dc:title>Web Algorithmics</dc:title>
</cp:coreProperties>
</file>